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691-260A-4895-B6D9-D366DC81E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ou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= 130 + 2n, C = cost of trip in dollars, n = number of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.  The slope is 2, the y-intercept (vertical intercept) =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lope indicates that for each additional child we take on the trip the cost increases by $2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initial cost is $130, the cost of taking just the bus to the f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.  C(5) means the cost of taking 5 children to the f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(5) = $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.  2n + 130 = 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n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the number of children we can take if we have $146 to sp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4B4-FD55-4B57-9B34-EE76EDE9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695-5991-4A64-8D1E-30773C2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50F-432C-4C3C-8C49-CB8FC91D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0D5-7840-4964-A785-13AF98B0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AD3-6B41-4828-8B30-C7EFF028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19F6-3555-45FE-9C7B-620F72F1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1BC-9EED-4914-85B7-2E2773F8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669D-335D-45C6-A27F-4E622F66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C10-17F9-4229-9E15-F05568EE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7C38-E8EC-4D9B-96BD-586CCCDA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B1E-EF4D-40FF-A3B9-842B519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2A1-BC07-4821-9DB4-10DAB341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0BCB-085B-47D3-BF87-2545171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23DA-6AF2-437F-9450-39F2B0B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C785-58A8-49A0-B9C4-D46B7FD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76E0-542B-4324-B901-8A0627E4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672F-7CAB-40CE-B626-3D61047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6D0-CEB6-4205-9A9F-A96D50D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7DD-126C-45DC-801E-DE594F02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86D-74E1-440E-A821-15917CDA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411-CAD3-474B-97F9-95F39AFE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5E7-48E3-4C5A-AC06-9370EBB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2EF-D786-498B-A7D5-BA4907D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6E0-0B3F-43AF-A7C0-71A3B5E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99FF-4334-4C8D-9A56-9BA8C6BE15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6F5-4C27-4B64-B1BB-28417E0A30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1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Functions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int-Slope For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Given point, (a, b), and slope, m, the equation can be found using the form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y – b = m(x – 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is is called the point-slope form of the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ind the equation of the line passing through the given point with the given slope.  Write your answer in point slope for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6, 12), m =  –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1, -4), m = 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ind the equation of the line passing through the given points.  Use the first point as 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,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) and write your answer in point slope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2,3), (1,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1,2), (-2,-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Slope-Intercept Form of a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lope Intercept form of a l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mx +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m = slop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b= y-intercep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ing equations-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given slope and a poin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ind the equation of each line in point slope form and in slope-intercep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2,3) m = 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3, 5) m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8, 7) m = -3/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ce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Horizontal Intercept- where the line crosses the x ax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is can be found by letting y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Vertical Intercept- where the line crosses the y ax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is can be found by letting x = 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 the x- and y-intercepts on the following l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3x – 5y =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/3)y – x = 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rizontal and Vertical Line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quation of the horizontal line with y-intercept b is y = 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quation of the vertical line with x-intercept k is x = 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equation of the line satisfying the condi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passing through (1.95, 10.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izontal passing through (1.95, 10.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allel and Perpendicular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Parallel lines have the same slope.  (They are changing at the same r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lopes of perpendicular lines are negative reciprocals of one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½ and -2; 2/3 and -3/2; -5 and 1/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ing Discrete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 can graph the points and see if they are line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ter the data from example 1 into L1 and L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er the data…if there is already data in your lists you can more the cursor to the very top (on L1) and press clear enter.  This will clear the li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urn Stat plot 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ss 2nd y=  (stat plo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ype: first option, this is the scatter p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the scatter p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oomstat – this changes the window to values that are best for your set of data, without us having to pick the best wind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or each of the following pairs of lines, determine whether the lines are parallel, perpendicular or nei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.  3x + 2y = 4 and 6x + 4y =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b.  5x – 7y = 3 and 4x – 3y =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.  5x – 7y = 15 and 15y - 21x =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.  ax = by = c and akx +aky = d, (a ≠ 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e the Equation Parallel to a given 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x – 3y = 9, (-9,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x + 5y = 16, (-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e the Equation Perpendicular to a given 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x + 4y = 8, (7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x – 8y = 10, (1, 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how that the points (1, 1), (3,4) and (4,-1) from the vertices of a right tri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s values that are between two or more known data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po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s values that are not between two known data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1 #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Vari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x and y denote two quantities.  Then y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rectly proportio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x, or 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aries direc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x, if there exists a nonzero number k such that y = kx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 is called the constant of proportionality or the constant of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4 # 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2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ing Discrete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by graphing the equation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the equation into y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trace or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ne should go through all of the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are done using the stat plot option go to stat plot and choose 4:plots off enter.  This will shut off the statplo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hange your window back to standard –10-10 press zoom, zoom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3 #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03 #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4 #1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6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0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Regression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gressio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the least-squares 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model for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of the regressio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slope…tells us how the data values are chang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ing the future (not always accur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linear trend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1 #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1 #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2 #9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2 #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4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near inequality in one variable is an inequality that cab be written in th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 + b &gt;0 where 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≠ 0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The symbol &gt; can be replaced by &lt;, ≤, or ≥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al N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 interval (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open interval ( ], [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d interval [ 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inite interv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4 #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the equation rules when solving inequa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multiply or divide both sides by a negative flip the inequality 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4 #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Regression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ata into L1 and L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 the scatter p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s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Reg(a + b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= slope, b = y-inter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 with the points to see how close it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6 #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6 #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7 #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7 #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8 #9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5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cewise-Defin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2 #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Equ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f the equation has a constant rate of change then it is a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inear functions are formulas for graphing straight l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intercept form:  y = mx +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tandard form:  ax + by = c, a and b are both integers, a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3 #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3 #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3 #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est Integer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[x]] is the greatest integer less than or equal to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lways round down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[1.2]]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[1.9]]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Absolute Value Equations and Inequ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 it into 2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ip the second symbol and 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ing equations-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given slope and initial valu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initial value is when x = 0, which happens to be the y-intercept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Use y = mx +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itial value of 35, slope of 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phone company charges a flat fee of $29.99 plus $0.05 a minu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6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6 #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6 #1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local school is going on a field trip.  The cost is $130 for the bus and an additional $2 per chil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Write a formula for the linear function that models the cost for n child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How much is it for 15 children to atte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of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37:13Z</dcterms:created>
  <dc:creator>Amanda Beery</dc:creator>
  <dc:description/>
  <dc:language>en-US</dc:language>
  <cp:lastModifiedBy>abeery</cp:lastModifiedBy>
  <dcterms:modified xsi:type="dcterms:W3CDTF">2008-09-02T14:04:43Z</dcterms:modified>
  <cp:revision>7</cp:revision>
  <dc:subject/>
  <dc:title>2.1</dc:title>
</cp:coreProperties>
</file>